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7914-E0A3-4EFA-8BFF-E714529CC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D05C-0A94-4D56-8D55-6240103E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0FE5-234B-4A9C-9D43-1085F0361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4308-56F6-481C-9899-F5FEC119C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118-B0CD-4FB1-8063-EE6193A0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9402-5961-4183-8C6B-25600854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682-A336-4D94-B159-8DF3E973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4B62-BA89-4F66-8F9B-6D529BA0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2C3-9E8F-44C0-96AD-714386D9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387B-C93F-47A6-8FF3-1B36C366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813-7120-4A7B-BE70-502EAA6B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ABCD-1F63-4480-AF03-10C7C982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A02B-B38B-4328-9F1A-1AD12C1339F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fferent system and our response to loud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Essex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44800" y="573264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ology Department, Royal surrey county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. LOC Lateral-olivocochlear ref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ystem is not well underst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sists of descending fibers that make contact with the auditory nerve close to IHC but post-synap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be both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xcitato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inhibi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p to 6 different neuro-transmitters may be invol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rgely mysterious but potentially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. Instantaneous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ilar membrane (BM) response is linear up to about 20 dB S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ve 20 dB SL, severe compression a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 dB output for 10 dB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effect depends on the integrity of outer hair cells (OH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lost in some types of sensory neural impai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8972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81000" y="260280"/>
            <a:ext cx="902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ways in which hearing impairment may affect com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lack and Lopez-Poveda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43280" y="3573360"/>
            <a:ext cx="4176720" cy="24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. Inner hair cell (IHC)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ceptor potential operates in a narrow range (say 30 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HC receptor potential is approximately linear up to 70 dB SPL then it hits a ce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verely compressed above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gain is reduced in impairment, the ceiling may never be reached and the response will be linear through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Brainstem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jection neurons in cochlear nucleus (CN) are subject to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-frequency (narrow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been linked with echo-su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-frequency (wide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be useful in noisy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hibition may be less active with ag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unction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debate continues but possibilities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eping the system response within some useful operating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ful at cocktail parties, conference din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ibiting unwanted sounds, e.g. Swallowing, cough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Wideband suppre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ten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ive att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Narrowband suppression and exci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many process that regulate the strength of the response to s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st are supp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to go wrong. In a feedback loop the problem can lie either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y failure of a system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 the result of a failure of the input to the feedback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ory self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of the auditory system to sounds is self-regul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uses a range of different systems  to achieve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ilure of any one of these systems could affect how aversive sounds will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limit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se regulating systems include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oustic reflex (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dial-olivocochlear (M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ateral-olivocochlear (L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stantaneous compression of mechanical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ner hair cell (IHC) receptor potential voltage lim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arious brainstem inhibition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.. and possibly a few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Straight Arrow Connector 42"/>
          <p:cNvCxnSpPr>
            <a:stCxn id="49" idx="6"/>
          </p:cNvCxnSpPr>
          <p:nvPr/>
        </p:nvCxnSpPr>
        <p:spPr>
          <a:xfrm>
            <a:off x="1595160" y="3181320"/>
            <a:ext cx="6864840" cy="32400"/>
          </a:xfrm>
          <a:prstGeom prst="straightConnector1">
            <a:avLst/>
          </a:prstGeom>
          <a:ln w="38160">
            <a:solidFill>
              <a:srgbClr val="4f81bd"/>
            </a:solidFill>
            <a:prstDash val="sysDash"/>
            <a:miter/>
            <a:tailEnd len="med" type="arrow" w="med"/>
          </a:ln>
        </p:spPr>
      </p:cxnSp>
      <p:sp>
        <p:nvSpPr>
          <p:cNvPr id="49" name="Oval 3"/>
          <p:cNvSpPr/>
          <p:nvPr/>
        </p:nvSpPr>
        <p:spPr>
          <a:xfrm>
            <a:off x="250920" y="2820960"/>
            <a:ext cx="134460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ddle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08000" y="2749680"/>
            <a:ext cx="1751040" cy="863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asi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4716360" y="2892600"/>
            <a:ext cx="144000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6516720" y="2820960"/>
            <a:ext cx="158436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ain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Elbow Connector 8"/>
          <p:cNvCxnSpPr>
            <a:stCxn id="52" idx="0"/>
            <a:endCxn id="49" idx="0"/>
          </p:cNvCxnSpPr>
          <p:nvPr/>
        </p:nvCxnSpPr>
        <p:spPr>
          <a:xfrm flipV="1" rot="16200000">
            <a:off x="4115880" y="-372240"/>
            <a:ext cx="2160" cy="6387480"/>
          </a:xfrm>
          <a:prstGeom prst="bentConnector3">
            <a:avLst>
              <a:gd name="adj1" fmla="val 44980000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Elbow Connector 11"/>
          <p:cNvCxnSpPr>
            <a:stCxn id="52" idx="1"/>
            <a:endCxn id="50" idx="0"/>
          </p:cNvCxnSpPr>
          <p:nvPr/>
        </p:nvCxnSpPr>
        <p:spPr>
          <a:xfrm flipV="1" rot="16200000">
            <a:off x="4677120" y="853920"/>
            <a:ext cx="176760" cy="3966480"/>
          </a:xfrm>
          <a:prstGeom prst="bentConnector3">
            <a:avLst>
              <a:gd name="adj1" fmla="val 22897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Elbow Connector 24"/>
          <p:cNvCxnSpPr>
            <a:stCxn id="52" idx="3"/>
            <a:endCxn id="51" idx="4"/>
          </p:cNvCxnSpPr>
          <p:nvPr/>
        </p:nvCxnSpPr>
        <p:spPr>
          <a:xfrm rot="5400000">
            <a:off x="6074640" y="2795400"/>
            <a:ext cx="33840" cy="1313640"/>
          </a:xfrm>
          <a:prstGeom prst="bentConnector3">
            <a:avLst>
              <a:gd name="adj1" fmla="val 99784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Oval 35"/>
          <p:cNvSpPr/>
          <p:nvPr/>
        </p:nvSpPr>
        <p:spPr>
          <a:xfrm>
            <a:off x="3851280" y="2708280"/>
            <a:ext cx="1008000" cy="944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er 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Elbow Connector 38"/>
          <p:cNvCxnSpPr/>
          <p:nvPr/>
        </p:nvCxnSpPr>
        <p:spPr>
          <a:xfrm rot="5400000">
            <a:off x="3142440" y="3240720"/>
            <a:ext cx="106920" cy="559080"/>
          </a:xfrm>
          <a:prstGeom prst="bentConnector3">
            <a:avLst>
              <a:gd name="adj1" fmla="val 423986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gulatory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Elbow Connector 50"/>
          <p:cNvCxnSpPr>
            <a:endCxn id="51" idx="3"/>
          </p:cNvCxnSpPr>
          <p:nvPr/>
        </p:nvCxnSpPr>
        <p:spPr>
          <a:xfrm rot="10800000">
            <a:off x="4926960" y="3384000"/>
            <a:ext cx="1821600" cy="45000"/>
          </a:xfrm>
          <a:prstGeom prst="bentConnector4">
            <a:avLst>
              <a:gd name="adj1" fmla="val 16248"/>
              <a:gd name="adj2" fmla="val -1025806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Elbow Connector 54"/>
          <p:cNvCxnSpPr/>
          <p:nvPr/>
        </p:nvCxnSpPr>
        <p:spPr>
          <a:xfrm>
            <a:off x="826560" y="486900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Elbow Connector 58"/>
          <p:cNvCxnSpPr/>
          <p:nvPr/>
        </p:nvCxnSpPr>
        <p:spPr>
          <a:xfrm>
            <a:off x="826560" y="544356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59"/>
          <p:cNvSpPr/>
          <p:nvPr/>
        </p:nvSpPr>
        <p:spPr>
          <a:xfrm>
            <a:off x="1983240" y="4724280"/>
            <a:ext cx="12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p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cit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1125720" y="17002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851560" y="21240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4726080" y="414036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C effer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205000" y="4067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7120440" y="4140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Elbow Connector 23"/>
          <p:cNvCxnSpPr/>
          <p:nvPr/>
        </p:nvCxnSpPr>
        <p:spPr>
          <a:xfrm rot="5400000">
            <a:off x="7623360" y="3202200"/>
            <a:ext cx="106920" cy="559800"/>
          </a:xfrm>
          <a:prstGeom prst="bentConnector3">
            <a:avLst>
              <a:gd name="adj1" fmla="val 316554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31"/>
          <p:cNvSpPr/>
          <p:nvPr/>
        </p:nvSpPr>
        <p:spPr>
          <a:xfrm>
            <a:off x="3520800" y="3780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oustic reflex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ction begins above 6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ongest for broadban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ttenuation can be as great as 1 dB/dB above 8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R motor neurons are broadly tu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eration is relatively slow by acoustic standards (30+ m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ably a protection against sustained lou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y compute overall environment sound inten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52850" t="17347" r="12838" b="20640"/>
          <a:stretch/>
        </p:blipFill>
        <p:spPr>
          <a:xfrm>
            <a:off x="1476360" y="2050920"/>
            <a:ext cx="247968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633040" y="47163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 rot="16200000">
            <a:off x="383400" y="29880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27945" t="27190" r="32209" b="9813"/>
          <a:stretch/>
        </p:blipFill>
        <p:spPr>
          <a:xfrm>
            <a:off x="5192640" y="1979640"/>
            <a:ext cx="283536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6016320" y="4643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(m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 rot="16200000">
            <a:off x="3614400" y="28760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314172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2216880" y="170028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threshold                            relatively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3273480" y="56610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g and Dallos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382880" y="26370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576760" y="220500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5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. MOC suppression of BM respo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cts is through outer hair cells (OHC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OHC is dysfunctional, this cannot ope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egins to operate close to hearing thresh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rrowly tuned (compared to 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cal operation (source and target basilar membrane (BM) regions overl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controlled by from inferior colliculus (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.g. triggering in anticipation (e.g. Swallow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8021" t="15374" r="49366" b="6250"/>
          <a:stretch/>
        </p:blipFill>
        <p:spPr>
          <a:xfrm>
            <a:off x="2143080" y="404640"/>
            <a:ext cx="2438280" cy="251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rcRect l="9128" t="14390" r="49366" b="13750"/>
          <a:stretch/>
        </p:blipFill>
        <p:spPr>
          <a:xfrm>
            <a:off x="5891040" y="404640"/>
            <a:ext cx="2589480" cy="25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rcRect l="8575" t="13406" r="49366" b="11781"/>
          <a:stretch/>
        </p:blipFill>
        <p:spPr>
          <a:xfrm>
            <a:off x="2216160" y="3860640"/>
            <a:ext cx="251928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5927760" y="3860640"/>
            <a:ext cx="2984400" cy="2521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738160" y="44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sholds                                       tuning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781000" y="341964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/ level                              basilar membran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59920" y="292428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C effe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557800" y="651672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berman (1988)                          Russel and Murugasu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943280" y="504720"/>
            <a:ext cx="5257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2:05Z</dcterms:created>
  <dc:creator>rmeddis</dc:creator>
  <dc:description/>
  <dc:language>en-US</dc:language>
  <cp:lastModifiedBy>rmeddis</cp:lastModifiedBy>
  <dcterms:modified xsi:type="dcterms:W3CDTF">2010-11-12T16:24:57Z</dcterms:modified>
  <cp:revision>25</cp:revision>
  <dc:subject/>
  <dc:title>The efferent system and our response to loud sounds</dc:title>
</cp:coreProperties>
</file>